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F6BB-8345-49C1-B262-5907F188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B9B-A2C8-4CF3-8DAF-D9536D53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864-75B6-44FB-A7C8-EAC2CA6E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87F-BE22-458B-A5C3-33624300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87F9-A74F-4F45-B114-4030EC87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308-9715-4B0B-90D9-C39DEA60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4CC-7525-4C43-BB08-B0A26700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C75-4958-4B3E-BE74-9CE3482B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B6F2-5C70-4471-A698-4348C047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D84-942F-4B66-AB56-76C65B53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15F-2989-43CA-8720-2EBC3C23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9A5-D609-4CF9-BEF8-FF5F72E2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176D-F674-4A78-B8F3-486A0F3B7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hyperlink" Target="http://www.brainpop.com/math/numbersandoperations/orderofoperations/" TargetMode="External"/><Relationship Id="rId4" Type="http://schemas.openxmlformats.org/officeDocument/2006/relationships/hyperlink" Target="http://www.brainpop.com/math/numbersandoperations/orderofoperations/" TargetMode="External"/><Relationship Id="rId5" Type="http://schemas.openxmlformats.org/officeDocument/2006/relationships/hyperlink" Target="http://www.funbrain.com/algebra/index.html" TargetMode="External"/><Relationship Id="rId6" Type="http://schemas.openxmlformats.org/officeDocument/2006/relationships/hyperlink" Target="http://www.funbrain.com/algebra/index.html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Arial"/>
              </a:rPr>
              <a:t>Opener: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  Complete the following problems involving whole numb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.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9 + 831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2.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x 5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.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12 - 1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990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040" y="320004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ection 1.1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Students will identify and apply the Order of Operations to evaluate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s will identify and apply the Order of Operations to evaluate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Operations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athematical process +, -, x, 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valuat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alculate mathematical value;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xpressions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ymbols representing a value 15x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Grouping Symbols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hows what operation needs to be done first (  ) or brackets [ 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The order of operations help us guarantee that people from all over the world always get the same answer when solving the same math problem.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about what’s wrong with the following situation…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Your uncle takes you and 3 friends to the movies.  Tickets cost $9 each and he agrees to purchase a drink for everyone at $4 each and two large tubs of popcorn at $7 each.  What is the total cost for your unc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 x $9 + 4 x $4 + 2 x $7 =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6 + 4 x $4 + 2 x $7 =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0 x $4 + 2 x $7 =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$160 + 2 x $7 =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$162 x $7 =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Is this answer reason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this is why we need an order of operations, which is: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First, solve expressions inside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grouping symbols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(  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Evaluate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exponents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like a</a:t>
            </a:r>
            <a:r>
              <a:rPr b="1" lang="en-US" sz="2300" spc="-1" strike="noStrike" baseline="30000">
                <a:solidFill>
                  <a:srgbClr val="3399ff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Then,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multiply and divide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from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left to righ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Last,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add and subtract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from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left to righ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We can use brackets (like this       ) to identify which operation we are evaluating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xample 1: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Example 2: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 Exampl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(11 – 5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 + 7 x 2 -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20 – (3 x 5)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xample 4: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Example 5: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 Example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x 1 +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1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2 + 3 x 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8" idx="1"/>
            <a:endCxn id="48" idx="1"/>
          </p:cNvCxnSpPr>
          <p:nvPr/>
        </p:nvCxnSpPr>
        <p:spPr>
          <a:xfrm>
            <a:off x="456840" y="32382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0" name=""/>
          <p:cNvGrpSpPr/>
          <p:nvPr/>
        </p:nvGrpSpPr>
        <p:grpSpPr>
          <a:xfrm>
            <a:off x="5715000" y="457200"/>
            <a:ext cx="457200" cy="152280"/>
            <a:chOff x="5715000" y="457200"/>
            <a:chExt cx="457200" cy="152280"/>
          </a:xfrm>
        </p:grpSpPr>
        <p:sp>
          <p:nvSpPr>
            <p:cNvPr id="51" name=""/>
            <p:cNvSpPr/>
            <p:nvPr/>
          </p:nvSpPr>
          <p:spPr>
            <a:xfrm>
              <a:off x="5715000" y="457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15000" y="609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72200" y="457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" name=""/>
          <p:cNvGraphicFramePr/>
          <p:nvPr/>
        </p:nvGraphicFramePr>
        <p:xfrm>
          <a:off x="3962520" y="4952880"/>
          <a:ext cx="89532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4952880"/>
                    <a:ext cx="8953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1447920" y="2666880"/>
            <a:ext cx="609120" cy="152640"/>
            <a:chOff x="1447920" y="2666880"/>
            <a:chExt cx="609120" cy="152640"/>
          </a:xfrm>
        </p:grpSpPr>
        <p:sp>
          <p:nvSpPr>
            <p:cNvPr id="57" name=""/>
            <p:cNvSpPr/>
            <p:nvPr/>
          </p:nvSpPr>
          <p:spPr>
            <a:xfrm>
              <a:off x="1447920" y="2666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47920" y="281952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57040" y="2666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85800" y="3048120"/>
            <a:ext cx="609120" cy="75960"/>
            <a:chOff x="685800" y="3048120"/>
            <a:chExt cx="609120" cy="75960"/>
          </a:xfrm>
        </p:grpSpPr>
        <p:sp>
          <p:nvSpPr>
            <p:cNvPr id="61" name=""/>
            <p:cNvSpPr/>
            <p:nvPr/>
          </p:nvSpPr>
          <p:spPr>
            <a:xfrm>
              <a:off x="685800" y="3048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5800" y="31240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94920" y="3048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1 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78483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1 on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orkbook (PW) page 7 odd problems 1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PW pg.7 1-11 odd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#5 is a challenge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2,3 &amp; 4 did not get to slide 6 so they do not have homework – we will continu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tension: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Animated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hapter 1 – Selecting an Operation)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rainpop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on Order of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unbrain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- Working Back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7:55:35Z</dcterms:created>
  <dc:creator>deanne elizabeth mcgrath</dc:creator>
  <dc:description/>
  <dc:language>en-US</dc:language>
  <cp:lastModifiedBy>deanne elizabeth mcgrath</cp:lastModifiedBy>
  <dcterms:modified xsi:type="dcterms:W3CDTF">2010-09-07T17:57:48Z</dcterms:modified>
  <cp:revision>1</cp:revision>
  <dc:subject/>
  <dc:title>Slide 1</dc:title>
</cp:coreProperties>
</file>